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75D-7008-45CC-B136-BCE16F96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3C2-B4C7-4600-8AED-9AE3F6B8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0E9-AE42-41CB-95EA-8D5759E0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CDA-5295-4C51-A09B-6405A542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7FF-91DD-4F58-99C1-50356A7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457-6D5F-4D3E-8242-FAB011A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600-179D-4ED4-B680-1874CE28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2D5-3878-4B32-B743-D3C71939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894-46E1-4B71-BB60-563FE74F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B2C-27F0-450C-B02D-3B4810B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CE8-679F-4BA1-B8BB-8A58A8A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83F-5C48-489F-BE53-660169AE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0CB-0312-4D03-AFF6-6B56097B9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46905"/>
          <a:stretch/>
        </p:blipFill>
        <p:spPr>
          <a:xfrm>
            <a:off x="27000" y="609480"/>
            <a:ext cx="6858000" cy="74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53432" r="0" b="0"/>
          <a:stretch/>
        </p:blipFill>
        <p:spPr>
          <a:xfrm>
            <a:off x="115920" y="826920"/>
            <a:ext cx="659772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81000" y="468360"/>
            <a:ext cx="4824360" cy="439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5292720"/>
            <a:ext cx="5832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gen plannu hadau ar y gwely blod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pob pecyn yn gorchuddio 1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 yn costio 50c y pecy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wl pecyn a beth yw’r pri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6640" y="324000"/>
            <a:ext cx="2592360" cy="46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36:29Z</dcterms:created>
  <dc:creator>Betsan Thomas</dc:creator>
  <dc:description/>
  <dc:language>en-US</dc:language>
  <cp:lastModifiedBy>Betsan Thomas</cp:lastModifiedBy>
  <dcterms:modified xsi:type="dcterms:W3CDTF">2007-05-08T19:43:59Z</dcterms:modified>
  <cp:revision>2</cp:revision>
  <dc:subject/>
  <dc:title>Slide 1</dc:title>
</cp:coreProperties>
</file>